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E04-02EB-44F8-9B78-D3947591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EE5-D381-4321-8C87-6FFF39E7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B60-492F-4882-8F83-6E1D62A2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4C4-E0C1-4E3E-A142-57AA3E05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544-D2B4-4F67-8069-ED499767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8E6-C2CC-48CE-BF4C-2FF81093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E5C-6492-446A-B173-A74AD1C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B53-601A-4888-BBCE-DB35550A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1C4-9525-444D-8AF7-16C04E40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F20-065B-400C-A188-129C9AB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3FD-12C8-457B-914F-FD199199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464-BD99-4957-9324-A6428D02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67AA-B816-408B-A713-BCA97F245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otland Schie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pho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1908000"/>
            <a:ext cx="4572000" cy="304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ee Choic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247760"/>
            <a:ext cx="86104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C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191120" cy="297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419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257800" cy="348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4181400" cy="276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62720" y="13716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88620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4111560" cy="2712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67080" y="380880"/>
            <a:ext cx="4724640" cy="3103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52280" y="3657600"/>
            <a:ext cx="4572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4800600" cy="301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800600" cy="3163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038840" cy="26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05520" y="609480"/>
            <a:ext cx="40384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inting with Ligh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5520" cy="3932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ner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027320" cy="5410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ee Choic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5330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ghting with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4384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u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gital 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350040" cy="3073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ner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62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o get this shot, I used studio lighting against a white wall. I felt like this focused all the attention on the photos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843360" cy="4724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0:32:07Z</dcterms:created>
  <dc:creator>bal_sfschieber</dc:creator>
  <dc:description/>
  <dc:language>en-US</dc:language>
  <cp:lastModifiedBy>bal_sfschieber</cp:lastModifiedBy>
  <dcterms:modified xsi:type="dcterms:W3CDTF">2009-05-15T20:19:57Z</dcterms:modified>
  <cp:revision>8</cp:revision>
  <dc:subject/>
  <dc:title>Scotland Schieber</dc:title>
</cp:coreProperties>
</file>